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6CEE-3E51-4A85-907B-2E37F9BE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23EA-0442-434D-AA7C-551B4287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C0A5-D075-4DE5-82AE-C8A55B874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C32A-D3FB-41A7-B780-0D3485990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9A08-3EF7-4E1B-9526-B985FDE82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AE0C-CC40-45FF-8502-A7847094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855E-ED10-42BC-ACBF-4555F32F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4962-8857-499E-9EA2-EE8AED4F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C175-73B2-48F3-B529-F87AE949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414F-B21C-496A-AF55-3A73B093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6270-14DB-42A6-8945-D5D228A8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3C54-2C4C-4317-9389-9FE8BF00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D653-0C73-4CF2-9A4F-3B5A666E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1B60-ACCB-49DF-8643-908A4919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88D6-E2B4-4CC8-8FDB-A2AE0CE4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70EF-7710-48C0-B763-650072047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12EB-75A5-4797-9677-D86DECEC7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EA81-22B6-43E0-B223-CAEA2AEA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2838-DC8B-451B-ADAB-105A61C4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1E19-4FE8-4FDA-BD78-95151D0D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F6CF-EB53-4C2A-B0FD-D0970B40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EC26-BE2A-4484-A176-A407FBBD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58C2-0E98-4251-AF77-5128A4AC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76E1-CF74-4B76-B9B2-0A7B7247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D39D-F8EC-4022-B52D-451CA9D8FC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2462-F061-4BE4-85E2-6E904292D2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tare-juchy.pl/jesien/jesiend/kamien1.jpg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ybrzeze-rewalskie.pl/rewal/images/r-klif01.jpg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otcom.biz/zoom.asp?id_zdj=2549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fotcom.biz/zoom.asp?id_zdj=2316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1628640"/>
            <a:ext cx="8510400" cy="26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zynniki zewnętrzne (egzogeniczne)</a:t>
            </a:r>
            <a:br>
              <a:rPr sz="48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ształtujące powierzchnię Ziemi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5300640"/>
            <a:ext cx="854064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Opracował: Henryk Z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00"/>
                            </p:stCondLst>
                            <p:childTnLst>
                              <p:par>
                                <p:cTn id="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a4"/>
                </a:solidFill>
                <a:latin typeface="Arial"/>
              </a:rPr>
              <a:t>Grzyb skaln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54064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zynnik : ….                 Proces: 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powrót"/>
          <p:cNvPicPr/>
          <p:nvPr/>
        </p:nvPicPr>
        <p:blipFill>
          <a:blip r:embed="rId2"/>
          <a:stretch/>
        </p:blipFill>
        <p:spPr>
          <a:xfrm>
            <a:off x="1116000" y="1989000"/>
            <a:ext cx="684072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a4"/>
                </a:solidFill>
                <a:latin typeface="Arial"/>
              </a:rPr>
              <a:t>Kan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196640"/>
            <a:ext cx="854064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zynnik: ….                   Proces: …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powrót"/>
          <p:cNvPicPr/>
          <p:nvPr/>
        </p:nvPicPr>
        <p:blipFill>
          <a:blip r:embed="rId2"/>
          <a:stretch/>
        </p:blipFill>
        <p:spPr>
          <a:xfrm>
            <a:off x="900000" y="1844640"/>
            <a:ext cx="3073680" cy="4729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powrót"/>
          <p:cNvPicPr/>
          <p:nvPr/>
        </p:nvPicPr>
        <p:blipFill>
          <a:blip r:embed="rId3"/>
          <a:stretch/>
        </p:blipFill>
        <p:spPr>
          <a:xfrm>
            <a:off x="4788000" y="1844640"/>
            <a:ext cx="345096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a4"/>
                </a:solidFill>
                <a:latin typeface="Arial"/>
              </a:rPr>
              <a:t>Dolina V-kształtn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zynnik: ….               Proces: 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403280" y="2276640"/>
            <a:ext cx="640872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a4"/>
                </a:solidFill>
                <a:latin typeface="Arial"/>
              </a:rPr>
              <a:t>Meander - starorzecz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zynnik: ….                   Proces: 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0" y="2801880"/>
          <a:ext cx="4194000" cy="217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801880"/>
                    <a:ext cx="4194000" cy="21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403280" y="2276640"/>
            <a:ext cx="639756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elta – stożek napływow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zynnik: ….                  Proces: 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763640" y="2276640"/>
            <a:ext cx="52563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Jaskinia – szata naciekow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zynnik: ….                  Proces: 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403280" y="2276640"/>
            <a:ext cx="612144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a4"/>
                </a:solidFill>
                <a:latin typeface="Arial"/>
              </a:rPr>
              <a:t>Cyrk (kocioł, kar) polodowcow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zynnik: 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: 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643280" y="1484280"/>
            <a:ext cx="40341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a4"/>
                </a:solidFill>
                <a:latin typeface="Arial"/>
              </a:rPr>
              <a:t>Dolina U-kształtn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412640"/>
            <a:ext cx="85406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zynnik: …                 Proces: 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403280" y="2133720"/>
            <a:ext cx="633744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a4"/>
                </a:solidFill>
                <a:latin typeface="Arial"/>
              </a:rPr>
              <a:t>Wzgórza moreny czołowej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zynnik: ….                  Proces: 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g_cisowa.jpg (30472 bytes)"/>
          <p:cNvPicPr/>
          <p:nvPr/>
        </p:nvPicPr>
        <p:blipFill>
          <a:blip r:embed="rId2"/>
          <a:stretch/>
        </p:blipFill>
        <p:spPr>
          <a:xfrm>
            <a:off x="324000" y="2349360"/>
            <a:ext cx="84978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a4"/>
                </a:solidFill>
                <a:latin typeface="Arial"/>
              </a:rPr>
              <a:t>Głaz narzutow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zynnik: ….               Proces: 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Głaz narzutow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16000" y="2205000"/>
            <a:ext cx="662472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a4"/>
                </a:solidFill>
                <a:latin typeface="Arial"/>
              </a:rPr>
              <a:t>Czynniki zewnętrzne </a:t>
            </a:r>
            <a:br>
              <a:rPr sz="4000"/>
            </a:br>
            <a:r>
              <a:rPr b="0" lang="en-US" sz="4000" spc="-1" strike="noStrike">
                <a:solidFill>
                  <a:srgbClr val="0000a4"/>
                </a:solidFill>
                <a:latin typeface="Arial"/>
              </a:rPr>
              <a:t>kształtujące powierzchnię Ziemi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186920" y="2491920"/>
            <a:ext cx="6729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ła grawitacj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at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dy podziem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dy płyną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dy morsk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dowce i lądol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dy polodowcow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0"/>
                            </p:stCondLst>
                            <p:childTnLst>
                              <p:par>
                                <p:cTn id="3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0"/>
                            </p:stCondLst>
                            <p:childTnLst>
                              <p:par>
                                <p:cTn id="4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0"/>
                            </p:stCondLst>
                            <p:childTnLst>
                              <p:par>
                                <p:cTn id="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ynna jeziorn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zynnik: 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: 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j_hancza0.jpg (15387 bytes)"/>
          <p:cNvPicPr/>
          <p:nvPr/>
        </p:nvPicPr>
        <p:blipFill>
          <a:blip r:embed="rId2"/>
          <a:stretch/>
        </p:blipFill>
        <p:spPr>
          <a:xfrm>
            <a:off x="395280" y="1341360"/>
            <a:ext cx="3925800" cy="53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a4"/>
                </a:solidFill>
                <a:latin typeface="Arial"/>
              </a:rPr>
              <a:t>Oz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zynnik: ….                Proces: 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oz_turt_bach.jpg (29735 bytes)"/>
          <p:cNvPicPr/>
          <p:nvPr/>
        </p:nvPicPr>
        <p:blipFill>
          <a:blip r:embed="rId2"/>
          <a:stretch/>
        </p:blipFill>
        <p:spPr>
          <a:xfrm>
            <a:off x="1476360" y="2349360"/>
            <a:ext cx="597708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a4"/>
                </a:solidFill>
                <a:latin typeface="Arial"/>
              </a:rPr>
              <a:t>Klif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zynnik: ….                 Proces: 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Kl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58920" y="2205000"/>
            <a:ext cx="633744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a4"/>
                </a:solidFill>
                <a:latin typeface="Arial"/>
              </a:rPr>
              <a:t>Mierzej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zynnik: ….                   Proces: 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50920" y="2421000"/>
            <a:ext cx="8604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a4"/>
                </a:solidFill>
                <a:latin typeface="Arial"/>
              </a:rPr>
              <a:t>Czy to wszystkie formy powierzchni Ziemi …. 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Oczywiście, że nie 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Zwróć uwagę na inne jeszcze formy, np.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Sand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K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Spływy błot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Żłobki krasow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Nisza deflacyj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rocesy rzeźbotwórcz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etrzenie – proces przygotowujący do działalności następnych procesów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_______________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ozja – niszczeni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por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kumulacja – osadzanie, gromadzeni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a4"/>
                </a:solidFill>
                <a:latin typeface="Arial"/>
              </a:rPr>
              <a:t>Formy rzeźb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fbfff"/>
                </a:solidFill>
                <a:latin typeface="Arial"/>
              </a:rPr>
              <a:t>Forma rzeźb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czynnik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pro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p.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fbfff"/>
                </a:solidFill>
                <a:latin typeface="Arial"/>
              </a:rPr>
              <a:t>jaskin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efekt działalności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erozyjnej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wód  podziemnych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fbfff"/>
                </a:solidFill>
                <a:latin typeface="Arial"/>
              </a:rPr>
              <a:t>mierzeja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forma powstała w wyniku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akumulacji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wód morskich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ietrzen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866592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ietrzen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7360" y="1557360"/>
            <a:ext cx="3289320" cy="5033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24360" y="2349360"/>
            <a:ext cx="472896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a4"/>
                </a:solidFill>
                <a:latin typeface="Arial"/>
              </a:rPr>
              <a:t>Stożek piargow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zynnik: …..                 Proces: 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powrót"/>
          <p:cNvPicPr/>
          <p:nvPr/>
        </p:nvPicPr>
        <p:blipFill>
          <a:blip r:embed="rId2"/>
          <a:stretch/>
        </p:blipFill>
        <p:spPr>
          <a:xfrm>
            <a:off x="1187280" y="2212920"/>
            <a:ext cx="684072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a4"/>
                </a:solidFill>
                <a:latin typeface="Arial"/>
              </a:rPr>
              <a:t>Osuwisko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zynnik: …     Proces: 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kiedyś były tu trzy jeziorka, jednak z jednego z nich hrabia Potocki spuścił wodę w okresie międzywojennym. Jeziorka powstały natomiast w przeddzień rzymsko-katolickiej Wielkanocy roku 1907, na skutek osunięcia się olbrzymich mas skalnych, stąd też nazwa utworzonego w 1957r rezerwatu "Zwiezło"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9280" y="2637000"/>
            <a:ext cx="45720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a4"/>
                </a:solidFill>
                <a:latin typeface="Arial"/>
              </a:rPr>
              <a:t>Wydm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1360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zynnik: …..                    Proces: …..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powrót"/>
          <p:cNvPicPr/>
          <p:nvPr/>
        </p:nvPicPr>
        <p:blipFill>
          <a:blip r:embed="rId2"/>
          <a:stretch/>
        </p:blipFill>
        <p:spPr>
          <a:xfrm>
            <a:off x="755640" y="1916280"/>
            <a:ext cx="3008160" cy="4582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072040" y="1916280"/>
            <a:ext cx="3148200" cy="46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2T10:07:52Z</dcterms:created>
  <dc:creator>Administrator</dc:creator>
  <dc:description/>
  <dc:language>en-US</dc:language>
  <cp:lastModifiedBy>Administrator</cp:lastModifiedBy>
  <dcterms:modified xsi:type="dcterms:W3CDTF">2003-05-23T09:14:39Z</dcterms:modified>
  <cp:revision>6</cp:revision>
  <dc:subject/>
  <dc:title>Slajd 1</dc:title>
</cp:coreProperties>
</file>